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BB834-FCE9-46C7-9E82-D7DF9A9B3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A612-6564-43AE-B130-769AD3F7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27846-4180-4D07-B75B-A8A9D01B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513CF-8ACA-4D83-B9E6-F26A78474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04A32-F63A-4285-B0FD-F210FB2E5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6E438-C5F9-4F7E-A62A-2419DC717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8C7C7-7762-4919-991D-BF6B4E69A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1492D-1BCC-40D7-B486-3F401F4F8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D63CB-F045-4BA0-B2B0-3CE284E5E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B9D28-A912-4E8D-8488-2DD69E4D4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C3F06-EC7B-4C07-9F03-051C4E40A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DCB4-1D92-4574-814E-BC94B340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6BBB0-BD2B-430A-8BE9-64570FD7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8D2EB-02B7-4CFD-BBC0-D6747B7C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DF005-63CC-4083-BBA6-1A0957765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2226A-2D69-45AA-9CC1-1E5741CD7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53328-D138-4A7D-B3D1-8C3C92B34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37F4A-49A2-46DF-8647-34577325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7801-230D-4BE2-B7F1-A470EAC1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98E26-0184-49AA-98B6-7650FAE3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9A916-943F-4208-8F2F-47A3CDEC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D68F9-6D36-4944-9920-00BE17B5F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5BA5-D3C7-40FC-A05B-3869BD8C0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D5AC9-D6EE-4FA8-AFCA-FC236926F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DCF4-A29F-4438-BA13-A0F97D0B9CD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 name=""/>
          <p:cNvGrpSpPr/>
          <p:nvPr/>
        </p:nvGrpSpPr>
        <p:grpSpPr>
          <a:xfrm>
            <a:off x="0" y="0"/>
            <a:ext cx="8458200" cy="5943600"/>
            <a:chOff x="0" y="0"/>
            <a:chExt cx="8458200" cy="5943600"/>
          </a:xfrm>
        </p:grpSpPr>
        <p:sp>
          <p:nvSpPr>
            <p:cNvPr id="4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2008-7F1D-4DAE-98C9-F54E606B3E7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ruby-lang.org/" TargetMode="External"/><Relationship Id="rId2" Type="http://schemas.openxmlformats.org/officeDocument/2006/relationships/hyperlink" Target="http://www.rubycentral.com/" TargetMode="External"/><Relationship Id="rId3" Type="http://schemas.openxmlformats.org/officeDocument/2006/relationships/hyperlink" Target="http://www.rubygarden.org/" TargetMode="External"/><Relationship Id="rId4" Type="http://schemas.openxmlformats.org/officeDocument/2006/relationships/hyperlink" Target="http://poignantguide.net/ruby" TargetMode="External"/><Relationship Id="rId5" Type="http://schemas.openxmlformats.org/officeDocument/2006/relationships/hyperlink" Target="http://bluebones.net/news/default.asp?action=view_story&amp;story_id=81" TargetMode="External"/><Relationship Id="rId6" Type="http://schemas.openxmlformats.org/officeDocument/2006/relationships/hyperlink" Target="http://bluebones.net/news/default.asp?action=view_story&amp;story_id=81" TargetMode="External"/><Relationship Id="rId7" Type="http://schemas.openxmlformats.org/officeDocument/2006/relationships/hyperlink" Target="http://bluebones.net/news/default.asp?action=view_story&amp;story_id=81" TargetMode="External"/><Relationship Id="rId8" Type="http://schemas.openxmlformats.org/officeDocument/2006/relationships/hyperlink" Target="http://bluebones.net/news/default.asp?action=view_story&amp;story_id=81" TargetMode="External"/><Relationship Id="rId9" Type="http://schemas.openxmlformats.org/officeDocument/2006/relationships/hyperlink" Target="http://bluebones.net/news/default.asp?action=view_story&amp;story_id=81"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981000"/>
            <a:ext cx="7772400" cy="2308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The </a:t>
            </a:r>
            <a:br>
              <a:rPr sz="4800"/>
            </a:br>
            <a:r>
              <a:rPr b="0" lang="en-AU" sz="4800" spc="-1" strike="noStrike">
                <a:solidFill>
                  <a:srgbClr val="ffffcc"/>
                </a:solidFill>
                <a:latin typeface="Tahoma"/>
              </a:rPr>
              <a:t>Ruby Programming Language</a:t>
            </a:r>
            <a:endParaRPr b="0" lang="en-US" sz="4800" spc="-1" strike="noStrike">
              <a:solidFill>
                <a:srgbClr val="ffffcc"/>
              </a:solidFill>
              <a:latin typeface="Tahoma"/>
            </a:endParaRPr>
          </a:p>
        </p:txBody>
      </p:sp>
      <p:sp>
        <p:nvSpPr>
          <p:cNvPr id="90" name="PlaceHolder 2"/>
          <p:cNvSpPr>
            <a:spLocks noGrp="1"/>
          </p:cNvSpPr>
          <p:nvPr>
            <p:ph type="subTitle"/>
          </p:nvPr>
        </p:nvSpPr>
        <p:spPr>
          <a:xfrm>
            <a:off x="1042560" y="3860280"/>
            <a:ext cx="72010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O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hy are you wasting brain pow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Languages Must be Nice to Human</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o focus on Human to be productiv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the price of machine power</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educe Programmers' Stres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tress is the enemy of Programm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tress reduces productivity</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How do programmers become stressed?</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repetitive task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How may times have you written </a:t>
            </a:r>
            <a:r>
              <a:rPr b="0" lang="en-AU" sz="2000" spc="-1" strike="noStrike">
                <a:solidFill>
                  <a:srgbClr val="ffffff"/>
                </a:solidFill>
                <a:latin typeface="Courier New"/>
                <a:ea typeface="Courier New"/>
              </a:rPr>
              <a:t>for (int i=o; i &lt; max; ++i)</a:t>
            </a:r>
            <a:r>
              <a:rPr b="0" lang="en-A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unnecessarily complex task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 templates. ‘nough said.</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y resolving problems that are not within the application domain</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hutting up the compiler, build scripts</a:t>
            </a:r>
            <a:endParaRPr b="0" lang="en-US" sz="20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e. By expending brain power on unnecessary things, that do not solve your main object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042920" y="692280"/>
            <a:ext cx="7224840" cy="54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116000" y="692280"/>
            <a:ext cx="7272360" cy="54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90480" y="274680"/>
            <a:ext cx="7761240" cy="582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90480" y="274680"/>
            <a:ext cx="7761240" cy="582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90480" y="274680"/>
            <a:ext cx="7761240" cy="58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Designing a </a:t>
            </a:r>
            <a:r>
              <a:rPr b="1" lang="en-AU" sz="4400" spc="-1" strike="noStrike">
                <a:solidFill>
                  <a:srgbClr val="ffffcc"/>
                </a:solidFill>
                <a:latin typeface="Tahoma"/>
              </a:rPr>
              <a:t>useable</a:t>
            </a:r>
            <a:r>
              <a:rPr b="0" lang="en-AU" sz="4400" spc="-1" strike="noStrike">
                <a:solidFill>
                  <a:srgbClr val="ffffcc"/>
                </a:solidFill>
                <a:latin typeface="Tahoma"/>
              </a:rPr>
              <a:t> language</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o make better programming experience?</a:t>
            </a:r>
            <a:br>
              <a:rPr sz="2400"/>
            </a:br>
            <a:r>
              <a:rPr b="0" lang="en-US" sz="2400" spc="-1" strike="noStrike">
                <a:solidFill>
                  <a:srgbClr val="ffffff"/>
                </a:solidFill>
                <a:latin typeface="Tahoma"/>
              </a:rPr>
              <a:t>By providing good usability:</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earnability</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Useability for beginners, “Common sense”</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Efficiency</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Performance vs. Programming Efficiency</a:t>
            </a:r>
            <a:endParaRPr b="0" lang="en-US" sz="18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Users are not beginners forever</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Memorability</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Re-establishing proficiency with old code</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Errors</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Errors are the source of knowledge</a:t>
            </a:r>
            <a:endParaRPr b="0" lang="en-US" sz="18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Creativity is hindered by arbitrary restrictions</a:t>
            </a:r>
            <a:endParaRPr b="0" lang="en-US" sz="18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Satisfaction</a:t>
            </a:r>
            <a:endParaRPr b="0" lang="en-US" sz="2000" spc="-1" strike="noStrike">
              <a:solidFill>
                <a:srgbClr val="ffffff"/>
              </a:solidFill>
              <a:latin typeface="Tahoma"/>
            </a:endParaRPr>
          </a:p>
          <a:p>
            <a:pPr lvl="2" marL="1143000" indent="-2286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We program for money, but want to have fun as wel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ich leads us to…</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ahoma"/>
              </a:rPr>
              <a:t>Is there such a wonder language that provides all this?</a:t>
            </a:r>
            <a:endParaRPr b="0" lang="en-US" sz="40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Long answer</a:t>
            </a:r>
            <a:r>
              <a:rPr b="0" lang="en-AU" sz="3200" spc="-1" strike="noStrike">
                <a:solidFill>
                  <a:srgbClr val="ffffff"/>
                </a:solidFill>
                <a:latin typeface="Tahoma"/>
              </a:rPr>
              <a:t>: Try all languages and see what fits your brain best.</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Short answer</a:t>
            </a:r>
            <a:r>
              <a:rPr b="0" lang="en-AU" sz="3200" spc="-1" strike="noStrike">
                <a:solidFill>
                  <a:srgbClr val="ffffff"/>
                </a:solidFill>
                <a:latin typeface="Tahoma"/>
              </a:rPr>
              <a:t>: Duh, this is what this presentation is all about </a:t>
            </a:r>
            <a:r>
              <a:rPr b="0" lang="en-AU" sz="3200" spc="-1" strike="noStrike">
                <a:solidFill>
                  <a:srgbClr val="ffffff"/>
                </a:solidFill>
                <a:latin typeface="Wingdings"/>
                <a:ea typeface="Wingdings"/>
              </a:rPr>
              <a:t></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 Object-Oriented Scripting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uby = [Smalltalk - Unfamiliar syntax]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Perl's scripting power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Python's exception etc.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CLU's iterator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 lot more good th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Agneda</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Principles of Langu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o What’s Rub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Principles of Rub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hy Rub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hy Ruby suck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esour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 as in "Free Drink“.</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as open source with a very open licens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reedom to learn from the sour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reedom to extend and modif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the Scripting Language:</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cripting is programmability</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Generations of Scripting Language</a:t>
            </a:r>
            <a:endParaRPr b="0" lang="en-US" sz="28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0th Generation</a:t>
            </a:r>
            <a:br>
              <a:rPr sz="2400"/>
            </a:br>
            <a:r>
              <a:rPr b="0" lang="en-AU" sz="2400" spc="-1" strike="noStrike">
                <a:solidFill>
                  <a:srgbClr val="ffffff"/>
                </a:solidFill>
                <a:latin typeface="Tahoma"/>
              </a:rPr>
              <a:t>Sequence of interactive commands, UUCP chat, etc.</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1st Generation</a:t>
            </a:r>
            <a:br>
              <a:rPr sz="2400"/>
            </a:br>
            <a:r>
              <a:rPr b="0" lang="en-AU" sz="2400" spc="-1" strike="noStrike">
                <a:solidFill>
                  <a:srgbClr val="ffffff"/>
                </a:solidFill>
                <a:latin typeface="Tahoma"/>
              </a:rPr>
              <a:t>Small, tool chest languages, shell, SED, AWK, etc.</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2nd Generation</a:t>
            </a:r>
            <a:br>
              <a:rPr sz="2400"/>
            </a:br>
            <a:r>
              <a:rPr b="0" lang="en-AU" sz="2400" spc="-1" strike="noStrike">
                <a:solidFill>
                  <a:srgbClr val="ffffff"/>
                </a:solidFill>
                <a:latin typeface="Tahoma"/>
              </a:rPr>
              <a:t>One step toward "usual" programming language, Perl</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3rd Generation</a:t>
            </a:r>
            <a:br>
              <a:rPr sz="2400"/>
            </a:br>
            <a:r>
              <a:rPr b="0" lang="en-AU" sz="2400" spc="-1" strike="noStrike">
                <a:solidFill>
                  <a:srgbClr val="ffffff"/>
                </a:solidFill>
                <a:latin typeface="Tahoma"/>
              </a:rPr>
              <a:t>Full featured programming language, Python, Ruby, Perl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uby is as strong in scripting as Perl.</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uilt-in regular expression (Perl5 compatible).</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lmost all equivalent functionality of Perl. Except weird features and syntax. ;-)</a:t>
            </a:r>
            <a:endParaRPr b="0" lang="en-US" sz="28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an access all system calls on UNIX and Windows via a standard library</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DL (Dynamic Loading)</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lder (explicit) libraries: syscall and Win32API</a:t>
            </a:r>
            <a:endParaRPr b="0" lang="en-US" sz="28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Useful for scripting, but not limited to it.</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uby's OOP Featur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Object</a:t>
            </a:r>
            <a:br>
              <a:rPr sz="2800"/>
            </a:br>
            <a:r>
              <a:rPr b="0" lang="en-AU" sz="2800" spc="-1" strike="noStrike">
                <a:solidFill>
                  <a:srgbClr val="ffffff"/>
                </a:solidFill>
                <a:latin typeface="Tahoma"/>
              </a:rPr>
              <a:t>Everything is an ob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Class</a:t>
            </a:r>
            <a:br>
              <a:rPr sz="2800"/>
            </a:br>
            <a:r>
              <a:rPr b="0" lang="en-AU" sz="2800" spc="-1" strike="noStrike">
                <a:solidFill>
                  <a:srgbClr val="ffffff"/>
                </a:solidFill>
                <a:latin typeface="Tahoma"/>
              </a:rPr>
              <a:t>Every class is an ob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Methods</a:t>
            </a:r>
            <a:br>
              <a:rPr sz="2800"/>
            </a:br>
            <a:r>
              <a:rPr b="0" lang="en-AU" sz="2800" spc="-1" strike="noStrike">
                <a:solidFill>
                  <a:srgbClr val="ffffff"/>
                </a:solidFill>
                <a:latin typeface="Tahoma"/>
              </a:rPr>
              <a:t>Every procedure is a method; first-class/lambda</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at’s Ruby?</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uby's Advanced OOP Featur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No Multiple Inheritance, but Mix-ins</a:t>
            </a:r>
            <a:br>
              <a:rPr sz="2800"/>
            </a:br>
            <a:r>
              <a:rPr b="0" lang="en-AU" sz="2800" spc="-1" strike="noStrike">
                <a:solidFill>
                  <a:srgbClr val="ffffff"/>
                </a:solidFill>
                <a:latin typeface="Tahoma"/>
              </a:rPr>
              <a:t>Mix-in is as strong as multiple inheritance, only simpl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ingleton</a:t>
            </a:r>
            <a:br>
              <a:rPr sz="2800"/>
            </a:br>
            <a:r>
              <a:rPr b="0" lang="en-AU" sz="2800" spc="-1" strike="noStrike">
                <a:solidFill>
                  <a:srgbClr val="ffffff"/>
                </a:solidFill>
                <a:latin typeface="Tahoma"/>
              </a:rPr>
              <a:t>Properties belong to specific obje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eflec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Operation over meta information. Highly dynam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Principles of Ruby</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ocusing on the hum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ynamic Programm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inciple of Least Surpris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inciple of Succinctne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ightweight Langu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hoosing good nam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mbedding hidden messag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Focusing on the human</a:t>
            </a:r>
            <a:br>
              <a:rPr sz="4000"/>
            </a:br>
            <a:endParaRPr b="0" lang="en-US" sz="4000" spc="-1" strike="noStrike">
              <a:solidFill>
                <a:srgbClr val="ffffcc"/>
              </a:solidFill>
              <a:latin typeface="Tahoma"/>
            </a:endParaRPr>
          </a:p>
        </p:txBody>
      </p:sp>
      <p:sp>
        <p:nvSpPr>
          <p:cNvPr id="13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anguages can be viewed as interfac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o you like to fight/play with a programming language?</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lets you focus on problem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lets you stay high level of abstrac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 lets you make less errors by:</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arbage Collection</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xtensive Class Librarie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rbitrary Precision Inte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Syntax is fairly close to be “runnable peudocode”</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When did you feel fun in programming last tim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Fun and Easy Programming</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ess frustration makes programmer feel smart and productiv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asy things should be easy, hard things should be possible. (Perl slogan, but we do believe it too).</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Programs should not go obfuscated without programmers' consen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 need to forbid obfuscation (There’s more than one way to do i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 need to encourage obfuscation (But some ways are better than oth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Easy on the Brain</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Method chaining:</a:t>
            </a:r>
            <a:br>
              <a:rPr sz="2400"/>
            </a:br>
            <a:r>
              <a:rPr b="1" lang="en-AU" sz="2000" spc="-1" strike="noStrike">
                <a:solidFill>
                  <a:srgbClr val="ffffff"/>
                </a:solidFill>
                <a:latin typeface="Courier New"/>
                <a:ea typeface="Courier New"/>
              </a:rPr>
              <a:t>print array.uniq.sort.reverse</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Method names can include ! and ?</a:t>
            </a:r>
            <a:br>
              <a:rPr sz="2400"/>
            </a:br>
            <a:r>
              <a:rPr b="1" lang="en-AU" sz="2000" spc="-1" strike="noStrike">
                <a:solidFill>
                  <a:srgbClr val="ffffff"/>
                </a:solidFill>
                <a:latin typeface="Courier New"/>
                <a:ea typeface="Courier New"/>
              </a:rPr>
              <a:t>ary.sort!</a:t>
            </a:r>
            <a:r>
              <a:rPr b="0" lang="en-AU" sz="2400" spc="-1" strike="noStrike">
                <a:solidFill>
                  <a:srgbClr val="ffffff"/>
                </a:solidFill>
                <a:latin typeface="Tahoma"/>
              </a:rPr>
              <a:t> #=&gt; sorts in plac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y syntax:</a:t>
            </a:r>
            <a:br>
              <a:rPr sz="2400"/>
            </a:br>
            <a:r>
              <a:rPr b="1" lang="en-US" sz="2000" spc="-1" strike="noStrike">
                <a:solidFill>
                  <a:srgbClr val="ffffff"/>
                </a:solidFill>
                <a:latin typeface="Courier New"/>
                <a:ea typeface="Courier New"/>
              </a:rPr>
              <a:t>exit unless mystring.include? "aura"</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terators vs. loops:</a:t>
            </a:r>
            <a:br>
              <a:rPr sz="2400"/>
            </a:br>
            <a:r>
              <a:rPr b="1" lang="en-AU" sz="2000" spc="-1" strike="noStrike">
                <a:solidFill>
                  <a:srgbClr val="ffffff"/>
                </a:solidFill>
                <a:latin typeface="Courier New"/>
                <a:ea typeface="Courier New"/>
              </a:rPr>
              <a:t>files.each { |file| process(file) }</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se usage: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lass names begin with a Capital letter</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onstants are ALL_CAP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Everything else is either a method call or a local variabl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Easy on the Brain</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MyCla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ttr_reader   :name, :ag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ttr_accessor :addre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lias to_s :nam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Person = Struct.new(‘pers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name, :age, :addre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Person.class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gt; Cla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rec = Person.new</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gt; rec.class== Pers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Principles of Languages</a:t>
            </a:r>
            <a:endParaRPr b="0" lang="en-US" sz="4400" spc="-1" strike="noStrike">
              <a:solidFill>
                <a:srgbClr val="ffffcc"/>
              </a:solidFill>
              <a:latin typeface="Tahoma"/>
            </a:endParaRPr>
          </a:p>
        </p:txBody>
      </p:sp>
      <p:sp>
        <p:nvSpPr>
          <p:cNvPr id="94" name="PlaceHolder 2"/>
          <p:cNvSpPr>
            <a:spLocks noGrp="1"/>
          </p:cNvSpPr>
          <p:nvPr>
            <p:ph/>
          </p:nvPr>
        </p:nvSpPr>
        <p:spPr>
          <a:xfrm>
            <a:off x="456840" y="1600200"/>
            <a:ext cx="8435880" cy="4495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ogito ergo sum – Pascal.</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think, therefore we are.</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inking is a most important activity for programmers.</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ut how do we think?</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 think in words of specific language (probably different to yours)</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 grasp the world by a language and express myself with it</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Languages are not only tools to communicate, but also tools to think.</a:t>
            </a:r>
            <a:endParaRPr b="0" lang="en-US" sz="20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conversely, language influence thoughts</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en I use English, I am more logical and formal.</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en I use Hebrew, I speak lot more, and tend to be more expressiv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Blocks</a:t>
            </a: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Most method calls can take a block</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t's kind of callback</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Used for Iteration, Hook, Procedure abstraction,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array.each {|a| print 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File.open(filename) {|f| f.readlines.grep(/…/)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ary.map {|x| f(x) }.reject {|x| x&lt;10} .inject {|sum,x| sum+=x if x%3 == 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ynamic Programming</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ck Typing</a:t>
            </a:r>
            <a:br>
              <a:rPr sz="3200"/>
            </a:br>
            <a:r>
              <a:rPr b="0" lang="en-US" sz="3200" spc="-1" strike="noStrike">
                <a:solidFill>
                  <a:srgbClr val="ffffff"/>
                </a:solidFill>
                <a:latin typeface="Tahoma"/>
              </a:rPr>
              <a:t>aka Dynamic typing. Based on signatures, not class inherit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Dispatch</a:t>
            </a:r>
            <a:br>
              <a:rPr sz="3200"/>
            </a:br>
            <a:r>
              <a:rPr b="0" lang="en-US" sz="3200" spc="-1" strike="noStrike">
                <a:solidFill>
                  <a:srgbClr val="ffffff"/>
                </a:solidFill>
                <a:latin typeface="Tahoma"/>
              </a:rPr>
              <a:t>key concept of OOP</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Behavior</a:t>
            </a:r>
            <a:br>
              <a:rPr sz="3200"/>
            </a:br>
            <a:r>
              <a:rPr b="0" lang="en-US" sz="3200" spc="-1" strike="noStrike">
                <a:solidFill>
                  <a:srgbClr val="ffffff"/>
                </a:solidFill>
                <a:latin typeface="Tahoma"/>
              </a:rPr>
              <a:t>reflection, scope reopening, ev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Examples: Dynamic Programming</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require ‘singleton’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MyClas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nclude Singleto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o = MyClass.instance   # ‘new’ has been undefine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MyDataClas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def &lt;=&gt; (other)</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 returns -1, 0 or 1</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self.to_s &lt;=&gt; other.to_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nclude Comperable</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Examples: Dynamic Programming</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lass scope reopening:</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class String</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that’s the systems’ String!</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def firstNonMatch(str, idx=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 = idx</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i += 1 while self[i] == str[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return 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lias trim  strip</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    </a:t>
            </a:r>
            <a:r>
              <a:rPr b="1" lang="en-AU" sz="2400" spc="-1" strike="noStrike">
                <a:solidFill>
                  <a:srgbClr val="ffffff"/>
                </a:solidFill>
                <a:latin typeface="Courier New"/>
                <a:ea typeface="Courier New"/>
              </a:rPr>
              <a:t>alias trim! strip!</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urier New"/>
                <a:ea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Examples: Dynamic Programming</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Object singleton class</a:t>
            </a:r>
            <a:endParaRPr b="0" lang="en-US" sz="32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ary = [1,2,3]  # an object</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class &lt;&lt; ary</a:t>
            </a: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  # it’s singleton class</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def [] (idx) # redefined</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puts “DEBUG: accessing #{idx}”</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super</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	</a:t>
            </a:r>
            <a:r>
              <a:rPr b="1" lang="en-AU" sz="2800" spc="-1" strike="noStrike">
                <a:solidFill>
                  <a:srgbClr val="ffffff"/>
                </a:solidFill>
                <a:latin typeface="Courier New"/>
                <a:ea typeface="Courier New"/>
              </a:rPr>
              <a:t>end</a:t>
            </a:r>
            <a:endParaRPr b="0" lang="en-US" sz="2800" spc="-1" strike="noStrike">
              <a:solidFill>
                <a:srgbClr val="ffffff"/>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ourier New"/>
                <a:ea typeface="Courier New"/>
              </a:rPr>
              <a:t>e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Principle of Least Surprise</a:t>
            </a: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supreme design goal of Ruby. Individual "surprise" differs person to person, but in general there are good surprises and bad surprises. “least surprise" means "least bad surpris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OLS makes the language transparen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OLS makes programmers happ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aveat: Surprise fundamentally means Matz’s own surpri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POLS</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at class is an object?</a:t>
            </a:r>
            <a:br>
              <a:rPr sz="2800"/>
            </a:br>
            <a:r>
              <a:rPr b="0" lang="en-AU" sz="2800" spc="-1" strike="noStrike">
                <a:solidFill>
                  <a:srgbClr val="ffffff"/>
                </a:solidFill>
                <a:latin typeface="Tahoma"/>
              </a:rPr>
              <a:t>o.clas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s it Array#size or Array#length?</a:t>
            </a:r>
            <a:br>
              <a:rPr sz="2800"/>
            </a:br>
            <a:r>
              <a:rPr b="0" lang="en-AU" sz="2800" spc="-1" strike="noStrike">
                <a:solidFill>
                  <a:srgbClr val="ffffff"/>
                </a:solidFill>
                <a:latin typeface="Tahoma"/>
              </a:rPr>
              <a:t>same method – they’re alias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at are the differences between arrays?</a:t>
            </a:r>
            <a:br>
              <a:rPr sz="2800"/>
            </a:br>
            <a:r>
              <a:rPr b="0" lang="en-AU" sz="2800" spc="-1" strike="noStrike">
                <a:solidFill>
                  <a:srgbClr val="ffffff"/>
                </a:solidFill>
                <a:latin typeface="Tahoma"/>
              </a:rPr>
              <a:t>diff = ary1 – ary2</a:t>
            </a:r>
            <a:br>
              <a:rPr sz="2800"/>
            </a:br>
            <a:r>
              <a:rPr b="0" lang="en-AU" sz="2800" spc="-1" strike="noStrike">
                <a:solidFill>
                  <a:srgbClr val="ffffff"/>
                </a:solidFill>
                <a:latin typeface="Tahoma"/>
              </a:rPr>
              <a:t>union = ary1 + ary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ow do I call some well known C methods?</a:t>
            </a:r>
            <a:br>
              <a:rPr sz="2800"/>
            </a:br>
            <a:r>
              <a:rPr b="0" lang="en-US" sz="2800" spc="-1" strike="noStrike">
                <a:solidFill>
                  <a:srgbClr val="ffffff"/>
                </a:solidFill>
                <a:latin typeface="Tahoma"/>
              </a:rPr>
              <a:t>Time.now.strftime("%Y-%b-%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Principle of Succinctness</a:t>
            </a: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re frustrated when </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feel we’re wasting tim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can't focus on problem itself.</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are interrupted.</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IME is an important facto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 can approximate our stress by the time we spent.</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quicker we program, the more we program.</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faster we finish our job, the better programmer we can be. Succinctness is Pow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Place your burden to machine's should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Principle of Succinctness</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lso known as “Principle of Least Effort”</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write less code, you see less bug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see less bugs, you can consider yourself smarter.</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ou can be 10 times (or even 1000 times) more productive</a:t>
            </a:r>
            <a:endParaRPr b="0" lang="en-US" sz="32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ccording to Fred P. Brooks: “Programmers generate about same amount of code per day regardless of the langu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ghtweight Language</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ghtweight languages are languages that consume less Brain Power. Imagine something like Learning Curve.</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How do we measure the amount of consumed "brain power" in programming?</a:t>
            </a:r>
            <a:endParaRPr b="0" lang="en-US" sz="28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rain Power is spent when I make up the logic to solve the problem. </a:t>
            </a:r>
            <a:r>
              <a:rPr b="0" lang="en-AU" sz="2400" spc="-1" strike="noStrike">
                <a:solidFill>
                  <a:srgbClr val="ffffff"/>
                </a:solidFill>
                <a:latin typeface="Wingdings"/>
                <a:ea typeface="Wingdings"/>
              </a:rPr>
              <a:t></a:t>
            </a:r>
            <a:r>
              <a:rPr b="0" lang="en-AU" sz="2400" spc="-1" strike="noStrike">
                <a:solidFill>
                  <a:srgbClr val="ffffff"/>
                </a:solidFill>
                <a:latin typeface="Tahoma"/>
              </a:rPr>
              <a:t> This is OK. It's a purpose of programming</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member the syntax of the language</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ook for reference</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ry to locate bugs</a:t>
            </a:r>
            <a:endParaRPr b="0" lang="en-US" sz="2400" spc="-1" strike="noStrike">
              <a:solidFill>
                <a:srgbClr val="ffffff"/>
              </a:solidFill>
              <a:latin typeface="Tahoma"/>
            </a:endParaRPr>
          </a:p>
          <a:p>
            <a:pPr lvl="1" marL="653760" indent="-2512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ry to shut up compiler. Sometimes we have to modify programs for compiler's sak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orem #1</a:t>
            </a:r>
            <a:br>
              <a:rPr sz="2800"/>
            </a:br>
            <a:r>
              <a:rPr b="0" lang="en-AU" sz="2800" spc="-1" strike="noStrike">
                <a:solidFill>
                  <a:srgbClr val="ffffff"/>
                </a:solidFill>
                <a:latin typeface="Tahoma"/>
              </a:rPr>
              <a:t>Languages therefore influence human thought</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anguages are not only tools to communicate, but also tools to think.</a:t>
            </a:r>
            <a:endParaRPr b="0" lang="en-US" sz="24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y influence human thought, possibly more than you think.</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ut this is a talk about Ruby. Do programming languages influence human though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Choosing Good Names</a:t>
            </a:r>
            <a:endParaRPr b="0" lang="en-US" sz="44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Name" is Pow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you know a true name of a thing, you have control over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you give a good name for a concept, 80% of the design is done alread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good name keeps motiv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good name encourages us working with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mbedding Hidden Messages</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is is how languages can influence programmers. There's more than one way to do it, but the language can encourage some by making them comfortable than other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xample: Bang Methods</a:t>
            </a:r>
            <a:br>
              <a:rPr sz="2800"/>
            </a:br>
            <a:r>
              <a:rPr b="0" lang="en-AU" sz="2800" spc="-1" strike="noStrike">
                <a:solidFill>
                  <a:srgbClr val="ffffff"/>
                </a:solidFill>
                <a:latin typeface="Tahoma"/>
              </a:rPr>
              <a:t>Some "dangerous" methods have "!" in their names. They might be faster, but you have to care about side effects. "!" reminds you of their side effect. You can avoid ugly "!" by using safer ver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Examples: Hidden Messages</a:t>
            </a:r>
            <a:endParaRPr b="0" lang="en-US" sz="44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 member variables (and properties</a:t>
            </a:r>
            <a:r>
              <a:rPr b="0" lang="en-US" sz="2400" spc="-1" strike="noStrike">
                <a:solidFill>
                  <a:srgbClr val="ffffff"/>
                </a:solidFill>
                <a:latin typeface="Tahoma"/>
              </a:rPr>
              <a:t>) of</a:t>
            </a:r>
            <a:r>
              <a:rPr b="0" lang="en-AU" sz="2400" spc="-1" strike="noStrike">
                <a:solidFill>
                  <a:srgbClr val="ffffff"/>
                </a:solidFill>
                <a:latin typeface="Tahoma"/>
              </a:rPr>
              <a:t> objects are private.</a:t>
            </a:r>
            <a:endParaRPr b="0" lang="en-US" sz="2400" spc="-1" strike="noStrike">
              <a:solidFill>
                <a:srgbClr val="ffffff"/>
              </a:solidFill>
              <a:latin typeface="Tahoma"/>
            </a:endParaRPr>
          </a:p>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a:t>
            </a:r>
            <a:r>
              <a:rPr b="0" lang="en-AU" sz="2400" spc="-1" strike="noStrike">
                <a:solidFill>
                  <a:srgbClr val="ffffff"/>
                </a:solidFill>
                <a:latin typeface="Courier New"/>
                <a:ea typeface="Courier New"/>
              </a:rPr>
              <a:t>attr</a:t>
            </a:r>
            <a:r>
              <a:rPr b="0" lang="en-AU" sz="2400" spc="-1" strike="noStrike">
                <a:solidFill>
                  <a:srgbClr val="ffffff"/>
                </a:solidFill>
                <a:latin typeface="Tahoma"/>
              </a:rPr>
              <a:t> family of methods are used to specify attributes by create accessor methods:</a:t>
            </a:r>
            <a:endParaRPr b="0" lang="en-US" sz="2400" spc="-1" strike="noStrike">
              <a:solidFill>
                <a:srgbClr val="ffffff"/>
              </a:solidFill>
              <a:latin typeface="Tahoma"/>
            </a:endParaRPr>
          </a:p>
          <a:p>
            <a:pPr lvl="1" marL="668520" indent="-257040">
              <a:lnSpc>
                <a:spcPct val="8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ea typeface="Courier New"/>
              </a:rPr>
              <a:t>attr_accessor :foo</a:t>
            </a:r>
            <a:br>
              <a:rPr sz="2000"/>
            </a:br>
            <a:r>
              <a:rPr b="0" lang="en-AU" sz="2000" spc="-1" strike="noStrike">
                <a:solidFill>
                  <a:srgbClr val="ffffff"/>
                </a:solidFill>
                <a:latin typeface="Tahoma"/>
              </a:rPr>
              <a:t>is equal to:</a:t>
            </a:r>
            <a:endParaRPr b="0" lang="en-US" sz="2000" spc="-1" strike="noStrike">
              <a:solidFill>
                <a:srgbClr val="ffffff"/>
              </a:solidFill>
              <a:latin typeface="Tahoma"/>
            </a:endParaRPr>
          </a:p>
          <a:p>
            <a:pPr lvl="1" marL="668520" indent="-257040">
              <a:lnSpc>
                <a:spcPct val="8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ea typeface="Courier New"/>
              </a:rPr>
              <a:t>def foo; @foo; end</a:t>
            </a:r>
            <a:br>
              <a:rPr sz="2000"/>
            </a:br>
            <a:r>
              <a:rPr b="0" lang="en-AU" sz="2000" spc="-1" strike="noStrike">
                <a:solidFill>
                  <a:srgbClr val="ffffff"/>
                </a:solidFill>
                <a:latin typeface="Courier New"/>
                <a:ea typeface="Courier New"/>
              </a:rPr>
              <a:t>def foo= (val); @foo=val; end</a:t>
            </a:r>
            <a:endParaRPr b="0" lang="en-US" sz="2000" spc="-1" strike="noStrike">
              <a:solidFill>
                <a:srgbClr val="ffffff"/>
              </a:solidFill>
              <a:latin typeface="Tahoma"/>
            </a:endParaRPr>
          </a:p>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at if the developer needs to access the “private parts” of the object?</a:t>
            </a:r>
            <a:br>
              <a:rPr sz="2400"/>
            </a:br>
            <a:r>
              <a:rPr b="0" lang="en-AU" sz="2400" spc="-1" strike="noStrike">
                <a:solidFill>
                  <a:srgbClr val="ffffff"/>
                </a:solidFill>
                <a:latin typeface="Tahoma"/>
              </a:rPr>
              <a:t>There are methods like:</a:t>
            </a:r>
            <a:endParaRPr b="0" lang="en-US" sz="2400" spc="-1" strike="noStrike">
              <a:solidFill>
                <a:srgbClr val="ffffff"/>
              </a:solidFill>
              <a:latin typeface="Tahoma"/>
            </a:endParaRPr>
          </a:p>
          <a:p>
            <a:pPr lvl="1" marL="668520" indent="-257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stance_variable_get / instance_variable_set</a:t>
            </a:r>
            <a:endParaRPr b="0" lang="en-US" sz="2000" spc="-1" strike="noStrike">
              <a:solidFill>
                <a:srgbClr val="ffffff"/>
              </a:solidFill>
              <a:latin typeface="Tahoma"/>
            </a:endParaRPr>
          </a:p>
          <a:p>
            <a:pPr lvl="1" marL="668520" indent="-2570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stance_eval / module_eval etc.</a:t>
            </a:r>
            <a:endParaRPr b="0" lang="en-US" sz="2000" spc="-1" strike="noStrike">
              <a:solidFill>
                <a:srgbClr val="ffffff"/>
              </a:solidFill>
              <a:latin typeface="Tahoma"/>
            </a:endParaRPr>
          </a:p>
          <a:p>
            <a:pPr marL="308520" indent="-30852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 these methods have long and explicit (ugly?) names. You can still do it, but by using them you are made aware of the impl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So…?</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ahoma"/>
              </a:rPr>
              <a:t>Should I or Shouldn’t I use Rub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a:t>
            </a: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productive.</a:t>
            </a:r>
            <a:br>
              <a:rPr sz="2800"/>
            </a:br>
            <a:r>
              <a:rPr b="0" lang="en-AU" sz="2800" spc="-1" strike="noStrike">
                <a:solidFill>
                  <a:srgbClr val="ffffff"/>
                </a:solidFill>
                <a:latin typeface="Tahoma"/>
              </a:rPr>
              <a:t>Ruby programs tend to be shorter yet readable.</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transparent.</a:t>
            </a:r>
            <a:br>
              <a:rPr sz="2800"/>
            </a:br>
            <a:r>
              <a:rPr b="0" lang="en-AU" sz="2800" spc="-1" strike="noStrike">
                <a:solidFill>
                  <a:srgbClr val="ffffff"/>
                </a:solidFill>
                <a:latin typeface="Tahoma"/>
              </a:rPr>
              <a:t>You may want to focus on programming itself.</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free.</a:t>
            </a:r>
            <a:br>
              <a:rPr sz="2800"/>
            </a:br>
            <a:r>
              <a:rPr b="0" lang="en-AU" sz="2800" spc="-1" strike="noStrike">
                <a:solidFill>
                  <a:srgbClr val="ffffff"/>
                </a:solidFill>
                <a:latin typeface="Tahoma"/>
              </a:rPr>
              <a:t>Not only free of charge, but freedom to use/modify/copy. Freedom to learn from its source</a:t>
            </a:r>
            <a:endParaRPr b="0" lang="en-US" sz="2800" spc="-1" strike="noStrike">
              <a:solidFill>
                <a:srgbClr val="ffffff"/>
              </a:solidFill>
              <a:latin typeface="Tahoma"/>
            </a:endParaRPr>
          </a:p>
          <a:p>
            <a:pPr marL="325800" indent="-3258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of the Ruby community.</a:t>
            </a:r>
            <a:br>
              <a:rPr sz="2800"/>
            </a:br>
            <a:r>
              <a:rPr b="0" lang="en-AU" sz="2800" spc="-1" strike="noStrike">
                <a:solidFill>
                  <a:srgbClr val="ffffff"/>
                </a:solidFill>
                <a:latin typeface="Tahoma"/>
              </a:rPr>
              <a:t>Helpful, without flame wars </a:t>
            </a:r>
            <a:r>
              <a:rPr b="0" lang="en-AU" sz="2800" spc="-1" strike="noStrike">
                <a:solidFill>
                  <a:srgbClr val="ffffff"/>
                </a:solidFill>
                <a:latin typeface="Wingdings"/>
                <a:ea typeface="Wingding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fast enough.</a:t>
            </a:r>
            <a:br>
              <a:rPr sz="2800"/>
            </a:br>
            <a:r>
              <a:rPr b="0" lang="en-AU" sz="2800" spc="-1" strike="noStrike">
                <a:solidFill>
                  <a:srgbClr val="ffffff"/>
                </a:solidFill>
                <a:latin typeface="Tahoma"/>
              </a:rPr>
              <a:t>Fairly fast for an interpreter. Replace bottleneck by C exten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s portable.</a:t>
            </a:r>
            <a:br>
              <a:rPr sz="2800"/>
            </a:br>
            <a:r>
              <a:rPr b="0" lang="en-AU" sz="2800" spc="-1" strike="noStrike">
                <a:solidFill>
                  <a:srgbClr val="ffffff"/>
                </a:solidFill>
                <a:latin typeface="Tahoma"/>
              </a:rPr>
              <a:t>Portable among many platforms thanks to open source. Including GUI toolki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Because it has what you need.</a:t>
            </a:r>
            <a:br>
              <a:rPr sz="2800"/>
            </a:br>
            <a:r>
              <a:rPr b="0" lang="en-AU" sz="2800" spc="-1" strike="noStrike">
                <a:solidFill>
                  <a:srgbClr val="ffffff"/>
                </a:solidFill>
                <a:latin typeface="Tahoma"/>
              </a:rPr>
              <a:t>Enough libraries to cover maths, DBs, distributed programming, os administration, networking, serializations, graphics, web-wor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a:t>
            </a:r>
            <a:endParaRPr b="0" lang="en-US" sz="44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Tahoma"/>
              </a:rPr>
              <a:t>Because it's fun!</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gramming should be a fun and creative experi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More examples: Sockets</a:t>
            </a: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ic network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sock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nt TCPSocket.open("localhost", "daytime").re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b network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t::HTTP::Proxy(addr, port).start(site) do |http|</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sponse = http.get(ur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le.open(filename, "w+") { |fi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le.puts response.bod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More examples: Database</a:t>
            </a:r>
            <a:endParaRPr b="0" lang="en-US" sz="44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tore: the simplest OO databas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b = PStore.new("/tmp/foo") # open databas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b.transaction do               # begin transacti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 db.roots                       # display root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y = db["root"] = [1,2,3,4]  # add to roo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y[0] = [1,1.5]                # modify objec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                             # end transacti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also have PostgreSQL, MySQL, Interbase interfaces, plus Ruby/DBI database abstraction lay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Why Ruby sucks</a:t>
            </a:r>
            <a:r>
              <a:rPr b="0" lang="en-AU" sz="4400" spc="-1" strike="noStrike" baseline="30000">
                <a:solidFill>
                  <a:srgbClr val="ffffcc"/>
                </a:solidFill>
                <a:latin typeface="Tahoma"/>
              </a:rPr>
              <a:t>*</a:t>
            </a:r>
            <a:endParaRPr b="0" lang="en-US" sz="4400" spc="-1" strike="noStrike">
              <a:solidFill>
                <a:srgbClr val="ffffcc"/>
              </a:solidFill>
              <a:latin typeface="Tahoma"/>
            </a:endParaRPr>
          </a:p>
        </p:txBody>
      </p:sp>
      <p:sp>
        <p:nvSpPr>
          <p:cNvPr id="18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t quite as mature as perl/pyth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n terms of available well-documented librari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On the plus side: more is available “out of the box”</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 CPAN and the lik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ut ruby gems is maturing rapidly</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t>
            </a:r>
            <a:r>
              <a:rPr b="0" lang="en-AU" sz="2400" spc="-1" strike="noStrike">
                <a:solidFill>
                  <a:srgbClr val="ffffff"/>
                </a:solidFill>
                <a:latin typeface="Tahoma"/>
              </a:rPr>
              <a:t>Fast enough” but not really fast.</a:t>
            </a:r>
            <a:br>
              <a:rPr sz="2400"/>
            </a:br>
            <a:r>
              <a:rPr b="0" lang="en-AU" sz="2400" spc="-1" strike="noStrike">
                <a:solidFill>
                  <a:srgbClr val="ffffff"/>
                </a:solidFill>
                <a:latin typeface="Tahoma"/>
              </a:rPr>
              <a:t>Syntax tree interpreter often slower than VM. This is planned for Ruby 2.0.</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Unicode support.</a:t>
            </a:r>
            <a:br>
              <a:rPr sz="2400"/>
            </a:br>
            <a:r>
              <a:rPr b="0" lang="en-AU" sz="2400" spc="-1" strike="noStrike">
                <a:solidFill>
                  <a:srgbClr val="ffffff"/>
                </a:solidFill>
                <a:latin typeface="Tahoma"/>
              </a:rPr>
              <a:t>Currently only through UTF-8.</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reen threads only</a:t>
            </a:r>
            <a:br>
              <a:rPr sz="2400"/>
            </a:br>
            <a:r>
              <a:rPr b="0" lang="en-AU" sz="2400" spc="-1" strike="noStrike">
                <a:solidFill>
                  <a:srgbClr val="ffffff"/>
                </a:solidFill>
                <a:latin typeface="Tahoma"/>
              </a:rPr>
              <a:t>Native threads planned for Ruby2.</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Presentation given by Matz on the future of Rub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Programmers' Thought</a:t>
            </a:r>
            <a:endParaRPr b="0" lang="en-US" sz="4400" spc="-1" strike="noStrike">
              <a:solidFill>
                <a:srgbClr val="ffffcc"/>
              </a:solidFill>
              <a:latin typeface="Tahoma"/>
            </a:endParaRPr>
          </a:p>
        </p:txBody>
      </p:sp>
      <p:sp>
        <p:nvSpPr>
          <p:cNvPr id="98" name="PlaceHolder 2"/>
          <p:cNvSpPr>
            <a:spLocks noGrp="1"/>
          </p:cNvSpPr>
          <p:nvPr>
            <p:ph/>
          </p:nvPr>
        </p:nvSpPr>
        <p:spPr>
          <a:xfrm>
            <a:off x="456840" y="1600200"/>
            <a:ext cx="8147160" cy="449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ritten-down thoughts become programs.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en a good programmer thinks about programs, perhaps he thinks in a programming language, because natural languages are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oo ambiguou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oo verbose,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oo indirect.</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ompare learning a new language to learning a new programming language (“how do I say tha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f programmers think in programming languages, they must influence thoughts as much as natural languages 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The Futur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2 and Rit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uby2, the language</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Slightly Incompatibl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Not Just Addition</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etter Syntax</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Language syntax is taking form as ruby 1.9</a:t>
            </a: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ite, the interpreter</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ytecode based virtual machin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etter Performanc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ow Native Threads and better Embedding</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Still vaporwa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Ruby Resources</a:t>
            </a: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1"/>
              </a:rPr>
              <a:t>http://www.ruby-lang.org/</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2"/>
              </a:rPr>
              <a:t>http://www.rubycentral.com/</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3"/>
              </a:rPr>
              <a:t>http://www.rubygarden.org/</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t>
            </a:r>
            <a:r>
              <a:rPr b="1" lang="en-AU" sz="2400" spc="-1" strike="noStrike">
                <a:solidFill>
                  <a:srgbClr val="ffffff"/>
                </a:solidFill>
                <a:latin typeface="Tahoma"/>
              </a:rPr>
              <a:t>Programming Ruby</a:t>
            </a:r>
            <a:r>
              <a:rPr b="0" lang="en-AU" sz="2400" spc="-1" strike="noStrike">
                <a:solidFill>
                  <a:srgbClr val="ffffff"/>
                </a:solidFill>
                <a:latin typeface="Tahoma"/>
              </a:rPr>
              <a:t>“ - The Pragmatic Programmer's Guide, Addison Wesley, October 2000</a:t>
            </a:r>
            <a:br>
              <a:rPr sz="2400"/>
            </a:br>
            <a:r>
              <a:rPr b="0" lang="en-AU" sz="2400" spc="-1" strike="noStrike">
                <a:solidFill>
                  <a:srgbClr val="ffffff"/>
                </a:solidFill>
                <a:latin typeface="Tahoma"/>
              </a:rPr>
              <a:t>Available online at: http://www.rubycentral.com/book</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66"/>
                </a:solidFill>
                <a:uFillTx/>
                <a:latin typeface="Tahoma"/>
                <a:hlinkClick r:id="rId4"/>
              </a:rPr>
              <a:t>http://poignantguide.net/ruby</a:t>
            </a:r>
            <a:r>
              <a:rPr b="0" lang="en-AU" sz="2400" spc="-1" strike="noStrike">
                <a:solidFill>
                  <a:srgbClr val="ffffff"/>
                </a:solidFill>
                <a:latin typeface="Tahoma"/>
              </a:rPr>
              <a:t> - Why’s (poignant) Guide to Ruby (with cartoon foxes)</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scientific proof to why Ruby the is most loveable language </a:t>
            </a:r>
            <a:r>
              <a:rPr b="0" lang="en-US" sz="2400" spc="-1" strike="noStrike">
                <a:solidFill>
                  <a:srgbClr val="ffffff"/>
                </a:solidFill>
                <a:latin typeface="Wingdings"/>
                <a:ea typeface="Wingdings"/>
              </a:rPr>
              <a:t></a:t>
            </a:r>
            <a:r>
              <a:rPr b="0" lang="en-AU" sz="2400" spc="-1" strike="noStrike">
                <a:solidFill>
                  <a:srgbClr val="ffffff"/>
                </a:solidFill>
                <a:latin typeface="Tahoma"/>
              </a:rPr>
              <a:t> </a:t>
            </a:r>
            <a:r>
              <a:rPr b="0" lang="en-US" sz="2400" spc="-1" strike="noStrike" u="sng">
                <a:solidFill>
                  <a:srgbClr val="ffcc66"/>
                </a:solidFill>
                <a:uFillTx/>
                <a:latin typeface="Tahoma"/>
                <a:hlinkClick r:id="rId5"/>
              </a:rPr>
              <a:t>http://</a:t>
            </a:r>
            <a:r>
              <a:rPr b="0" lang="en-US" sz="2400" spc="-1" strike="noStrike" u="sng">
                <a:solidFill>
                  <a:srgbClr val="ffcc66"/>
                </a:solidFill>
                <a:uFillTx/>
                <a:latin typeface="Tahoma"/>
                <a:hlinkClick r:id="rId6"/>
              </a:rPr>
              <a:t>bluebones.net/news/default.asp?action</a:t>
            </a:r>
            <a:r>
              <a:rPr b="0" lang="en-US" sz="2400" spc="-1" strike="noStrike" u="sng">
                <a:solidFill>
                  <a:srgbClr val="ffcc66"/>
                </a:solidFill>
                <a:uFillTx/>
                <a:latin typeface="Tahoma"/>
                <a:hlinkClick r:id="rId7"/>
              </a:rPr>
              <a:t>=</a:t>
            </a:r>
            <a:r>
              <a:rPr b="0" lang="en-US" sz="2400" spc="-1" strike="noStrike" u="sng">
                <a:solidFill>
                  <a:srgbClr val="ffcc66"/>
                </a:solidFill>
                <a:uFillTx/>
                <a:latin typeface="Tahoma"/>
                <a:hlinkClick r:id="rId8"/>
              </a:rPr>
              <a:t>view_story&amp;story_id</a:t>
            </a:r>
            <a:r>
              <a:rPr b="0" lang="en-US" sz="2400" spc="-1" strike="noStrike" u="sng">
                <a:solidFill>
                  <a:srgbClr val="ffcc66"/>
                </a:solidFill>
                <a:uFillTx/>
                <a:latin typeface="Tahoma"/>
                <a:hlinkClick r:id="rId9"/>
              </a:rPr>
              <a:t>=8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orem #2</a:t>
            </a:r>
            <a:br>
              <a:rPr sz="2800"/>
            </a:br>
            <a:r>
              <a:rPr b="0" lang="en-AU" sz="2800" spc="-1" strike="noStrike">
                <a:solidFill>
                  <a:srgbClr val="ffffff"/>
                </a:solidFill>
                <a:latin typeface="Tahoma"/>
              </a:rPr>
              <a:t>"languages" include programming languages.</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e express our programming needs in them and they in turn affect the way we think and express thoughts.</a:t>
            </a:r>
            <a:endParaRPr b="0" lang="en-US" sz="24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 </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at is the purpose of programming languages?</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o programming languages differ in productivity?</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What makes programming languages more produc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Purpose of Programming Languages</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each computers what to do.</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scribe problem to solve.</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ost importantly, express programmers thought in a form of program.</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But often forgotten: Man is not a Machine</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f you are a machine, there's no need for programming languages. You can talk to the machine direct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cc"/>
                </a:solidFill>
                <a:latin typeface="Tahoma"/>
              </a:rPr>
              <a:t>A programming language should be:</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language t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elps our thou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uides us to be better programme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akes us to enjoy programm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but does not brainwash u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e just want to be "influenced"*</a:t>
            </a:r>
            <a:endParaRPr b="0" lang="en-US" sz="28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Read “Babel-17” by Samuel R. Delane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Consider the Human Brain</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Human Brain is Limit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n are good at</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king error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reation</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magination</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n are bad at</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making copi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routine work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ast calcul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saph</cp:lastModifiedBy>
  <dcterms:modified xsi:type="dcterms:W3CDTF">2004-05-12T22:46:09Z</dcterms:modified>
  <cp:revision>25</cp:revision>
  <dc:subject/>
  <dc:title>PowerPoint Presentation</dc:title>
</cp:coreProperties>
</file>